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B1BB-9144-405C-A5F7-85D08AE65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1EDC-A17D-4618-AAAE-19A955BF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252C-80D5-4EF3-AEC4-9F0DDA6CA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546A-4DCC-494F-B880-9A760E743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878B-78B2-49FA-9B1D-10CA2A2F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75AB-B511-4999-9916-9C20D26B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75ED-DCA1-44D6-84A4-94AC47EA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D914-8DA4-440D-9F9E-53FDC7C5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442B-5E5B-4DEB-9EBC-FE12A975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E58D-68B7-4C3D-A0FD-E7AFF942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3BA3-5335-4329-A2A6-3455543F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2DDC-26C4-4F43-9869-1ECBDEB9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B695-6F22-4E9E-9E56-B927B8F0608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2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179280" y="1484280"/>
            <a:ext cx="8713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306360" y="3716280"/>
            <a:ext cx="8569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صبر والعفو أفض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فيه أجر من الله تعالى علي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10" descr=""/>
          <p:cNvPicPr/>
          <p:nvPr/>
        </p:nvPicPr>
        <p:blipFill>
          <a:blip r:embed="rId3"/>
          <a:stretch/>
        </p:blipFill>
        <p:spPr>
          <a:xfrm>
            <a:off x="2873520" y="1052640"/>
            <a:ext cx="6019560" cy="583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"/>
          <p:cNvPicPr/>
          <p:nvPr/>
        </p:nvPicPr>
        <p:blipFill>
          <a:blip r:embed="rId4"/>
          <a:stretch/>
        </p:blipFill>
        <p:spPr>
          <a:xfrm>
            <a:off x="1198440" y="2924280"/>
            <a:ext cx="7694640" cy="5968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250920" y="1700280"/>
            <a:ext cx="856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عرفة أحوالهم وما يناسب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533"/>
          <a:stretch/>
        </p:blipFill>
        <p:spPr>
          <a:xfrm>
            <a:off x="324000" y="2276640"/>
            <a:ext cx="85341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12600"/>
            <a:ext cx="9144000" cy="1266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43280" y="4581360"/>
            <a:ext cx="37465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08000" y="1041480"/>
            <a:ext cx="8829720" cy="56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1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8642160" cy="4464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"/>
          <p:cNvPicPr/>
          <p:nvPr/>
        </p:nvPicPr>
        <p:blipFill>
          <a:blip r:embed="rId2"/>
          <a:stretch/>
        </p:blipFill>
        <p:spPr>
          <a:xfrm>
            <a:off x="179280" y="934920"/>
            <a:ext cx="8817120" cy="100980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395280" y="472428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قرآ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395280" y="53006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دعاء إلى الله بآياته والدعاء إلى حججه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95280" y="5915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جهدون أنفسهم في عداوتك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sp>
        <p:nvSpPr>
          <p:cNvPr id="55" name="مستطيل 1"/>
          <p:cNvSpPr/>
          <p:nvPr/>
        </p:nvSpPr>
        <p:spPr>
          <a:xfrm>
            <a:off x="1979640" y="1557360"/>
            <a:ext cx="360360" cy="28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دعوة إلى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 كفائي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واجب كفائي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ذا قام به من يكفي سقط الإثم عن الباق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جب أن تكون الدعوة إلى الله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لى بصيرة وعل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66760" y="3068640"/>
            <a:ext cx="8666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نبغي للداع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عرفة أحوال المدعوين وما يناسب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362412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عاقبة بالمثل دون تجاوز للضوابط الشرعي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ائ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403560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فضل من المعاقبة بالمث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صبر والاحتساب والعفو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454968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ية الله تعالى ثابتة لأه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قوى والإح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505476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فة معية الله تعالى لأهل التقوى والإحسا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عية نصر وتأيي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8" name="مربع نص 1"/>
          <p:cNvSpPr/>
          <p:nvPr/>
        </p:nvSpPr>
        <p:spPr>
          <a:xfrm>
            <a:off x="250920" y="1700280"/>
            <a:ext cx="86295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حكم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موعظة الحسن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3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مجادلة بالتي هي أحس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3"/>
          <a:stretch/>
        </p:blipFill>
        <p:spPr>
          <a:xfrm>
            <a:off x="3597120" y="907920"/>
            <a:ext cx="528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"/>
          <p:cNvPicPr/>
          <p:nvPr/>
        </p:nvPicPr>
        <p:blipFill>
          <a:blip r:embed="rId3"/>
          <a:stretch/>
        </p:blipFill>
        <p:spPr>
          <a:xfrm>
            <a:off x="455760" y="981000"/>
            <a:ext cx="8445240" cy="1152720"/>
          </a:xfrm>
          <a:prstGeom prst="rect">
            <a:avLst/>
          </a:prstGeom>
          <a:ln w="0">
            <a:noFill/>
          </a:ln>
        </p:spPr>
      </p:pic>
      <p:sp>
        <p:nvSpPr>
          <p:cNvPr id="73" name="مربع نص 1"/>
          <p:cNvSpPr/>
          <p:nvPr/>
        </p:nvSpPr>
        <p:spPr>
          <a:xfrm>
            <a:off x="250920" y="2205000"/>
            <a:ext cx="8629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صبر الرسول صلى الله عليه وسلم على دعوة كفار قريش إلى الإسلام (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0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) سنو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7T22:31:57Z</dcterms:modified>
  <cp:revision>1955</cp:revision>
  <dc:subject/>
  <dc:title>عرض تقديمي في PowerPoint</dc:title>
</cp:coreProperties>
</file>